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D85-1FBA-4B1C-8EC5-898752C9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42B5-192A-4830-92BE-462389D1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9AA-D303-4461-91F5-2C22CA1C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BDB-36AF-4749-8AC6-F8BCAB94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42D-47B2-4B10-A571-EAF1EECC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E5C5-CD1D-4C25-A2E7-5DA3713A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6A2-4783-47C4-805C-8658A05C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E41-2476-468E-A765-4052457E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6C8F-82A2-4D8B-93B6-8C9D5A5A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D95-5DAF-404B-BC4D-B4391E04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B8E-B237-40E0-9C59-DB0D2CC0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144-2256-4771-9983-039525B6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28E36ED7-8CA0-42C9-96C9-E3D2AC514B44}" type="slidenum"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5919840" cy="1339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Reabilitare Strada Cismelei, situata intre strada Dozsa Gyorgy si Joszef Attila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52480" y="79246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TIZA TEHN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6" name="Fotografii-0076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4344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xx</cp:lastModifiedBy>
  <cp:lastPrinted>2009-02-10T18:44:43Z</cp:lastPrinted>
  <dcterms:modified xsi:type="dcterms:W3CDTF">2011-01-03T13:49:54Z</dcterms:modified>
  <cp:revision>181</cp:revision>
  <dc:subject/>
  <dc:title>PowerPoint Presentation</dc:title>
</cp:coreProperties>
</file>